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20311C64-2B1F-4A2B-BC5B-AF19268D5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225B37C-A3D4-43F6-8F47-35C3F7B982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B44E76CE-5FBD-4E02-AFF9-B04FDAC720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BEA867C7-D275-45B4-A3CE-885ADE8738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57BCF59-5994-4D43-9627-11597DCE22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C80198A-F7E1-47B8-8FA4-964E511004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209F015F-2682-4D24-85CF-02D53E478E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1010BFE-0D4F-45E7-9D72-7B339C36B8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F171473-B2C0-4A4D-A471-F92DEDF84B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92835AE-ADB8-454F-8FD5-43A1E75E09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8A262A57-FB4F-4B21-A155-5C58874C37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AB64D87-0937-4F82-A1F2-07D4D38C12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6C1939B-D5F1-48A8-9092-3715AFCFFD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DF907149-C9D8-4EB5-8959-4324D9735D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D57F670-594A-4DE5-9B89-4AD851397B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8858FB4-DE31-4DDA-9C04-08B415DB7B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DE63FED-A2BE-45B9-8FEC-1AA1CE7584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505F48AC-D889-4855-86B7-73D4F476BF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6786D7BD-9DF9-4D92-AF43-F22CFE0985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2C328A4E-F05F-4AF3-8D94-DEE91ABA23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584F1EF-C8D8-4782-84F0-0C73CB9921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066D224-1B99-4740-B954-CB088E04CC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9EF29A1-652E-45C7-B99A-2128FF788B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83183922-8244-4A63-96E6-56C84D6825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A203CCE1-CEB3-409D-A50B-272AEA6F02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1945243-F4B5-4787-B3D5-6C0826298A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50E707F-FB9A-4C11-8DE6-C3FC3C5D6D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6DBD4-760C-4D23-929B-B9738E7EF9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B117D-243D-4B42-AB5C-A4F6EA8D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F0135-65E7-4268-A90C-4EEED19F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DD340-FB7B-4539-B17B-C98E51F431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802D4-D58E-45C1-990A-BA0E8A65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8A010-5EF5-4636-8DBF-0CB039C4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317F8-45EC-4493-895A-963F932E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4E84E-A989-4D37-A5DC-3C152FF2F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3DD98-31C5-4B66-99C4-1DA2C1639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61B4D-8B62-4D21-99E6-774A1C4B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950EA-F544-408A-AE03-53E5D86F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4A964-205F-4F17-A616-1C073B74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</a:pPr>
            <a:fld id="{4524F18F-86F0-42C7-9560-8FF788D85DE7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</a:pPr>
            <a:fld id="{060BCFD9-2B8A-483D-80E6-95A4CEBE47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datatracker.ietf.org/meeting/95/agenda.html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ools.ietf.org/wg/6tisch/charters?item=charter-6tisch-2016-03-04.txt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228600" y="4924440"/>
            <a:ext cx="808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i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cal Thube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omas Wattey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erpad for minu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etherpad.tools.ietf.org:9000/p/6tisch?useMonospaceFont=tr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3581280" y="3886200"/>
            <a:ext cx="525780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Pv6 over the TSCH mode of IEEE 802.15.4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914400" y="24163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 March 2016 Webe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TF9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52DE32C-4483-4B22-A4F4-ECA04D385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78B0F06-99FE-4038-BE64-090DD1F57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F2BB1B2-D49C-4E69-A1D4-CADC3ABE4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DC0FC3B0-5E6E-4661-976B-638D943E2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m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24000" y="1341360"/>
            <a:ext cx="8001000" cy="39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0760" indent="-3207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datatracker.ietf.org/meeting/95/agenda.htm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[PRELIMINARY!]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TiSCH WG meeting Mon 14.00-15.30 (+4 hours in CE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ortant dat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96600" indent="-266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6-03-21 (Monday): Internet Draft submission cut-off (for all drafts, including -00) by UTC 23:59, upload using IETF ID Submission Too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6600" indent="-266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6-03-21 (Monday): Draft Working Group agendas due by UTC 23:59, upload using IETF Meeting Materials Management Too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6600" indent="-266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6-03-25 (Friday): Early Bird registration and payment cut-off at UTC 23:59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6600" indent="-266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6-03-28 (Monday): Revised Working Group agendas due by UTC 23:59, upload using IETF Meeting Materials Management Too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ADDCBE3-1874-46C5-A48B-71B39483B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63E399B-33D5-4327-AA81-275CBB022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DEDD280-F764-4CC1-92EB-04C36ED8D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D00615A-70A2-41E6-B440-1CEB1750F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24000" y="1341360"/>
            <a:ext cx="8001000" cy="39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79720" indent="-2797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shlits before IETF95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07680" indent="-232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draft-dujovne-6tisch-6top-sf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7680" indent="-232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(rename) draft-wang-6tisch-6top-sublay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7680" indent="-232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up draft-ietf-6tisch-terminolog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shlist at IETF9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07680" indent="-232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pt draft-dujovne-6tisch-6top-sf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7680" indent="-232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pt draft-wang-6tisch-6top-sub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7680" indent="-232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on Paris plugtests and announce Berlin plug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shlist after IETF9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07680" indent="-232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, deploy, evaluat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 and IANA needs and stat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BCC52E21-6C21-485A-9587-DB099699B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289572DF-6D9A-4C97-B55D-39F568AA3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F8F00D7-F4C7-4DBD-93A3-2C3E4923A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8E249F30-5E45-4FCD-B745-0D0C4478F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lvl="1" marL="741240" indent="-284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6TiSCH Payload IE Group I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324000" y="1341360"/>
            <a:ext cx="8001000" cy="39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6560" indent="-286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ice 1, the vendor specific ID is already defined in the standard and needs no further action from 6tisch.  It uses the Payload IE Group ID = 0x2 followed by 3 octets of the Vendor’s OUI.  Two options here are to request an OUI from the IEEE RAC, or request a company ID from the IEEE RAC.  Regardless, the vendor specific ID adds 3 octets to the IE, which is not a problem if the IE is seldom used, such as configuring the netwo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6560" indent="-286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6560" indent="-286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ice 2, the ID is allocated to IETF via IANA. There is a defined process to obtain a Payload Group ID (http://www.ieee802.org/15/ANA.html), it basically starts with a formal request from an IANA officer.  The issue I have with this choice is that we have only 8 addresses left before going onto extended addresses, so we really need to make sure that each of the 8 addresses will be properly us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6560" indent="-286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6560" indent="-286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ice 3, the ESDU IE is meant to send a message to another node, it has no inherent formatting, the other node must already understand how to use the inform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P and SF0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stics for SFs and Relo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ken to identify transactions in 6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ing 6P transactions from rece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P behavior at bo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out handl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ry handl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tMap vs. explicit ce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B05C468B-022C-4716-956C-17395E12C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25BF2DB8-2CE2-4464-9FB2-D7EFDCFDD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74BDF13-0828-4C13-9401-8F5B7F5B9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CA68B1C-59FB-4949-8148-F0E6DD56F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stics for SFs and Re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ZoneTexte 11"/>
          <p:cNvSpPr/>
          <p:nvPr/>
        </p:nvSpPr>
        <p:spPr>
          <a:xfrm>
            <a:off x="395280" y="1557360"/>
            <a:ext cx="8353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ZoneTexte 11"/>
          <p:cNvSpPr/>
          <p:nvPr/>
        </p:nvSpPr>
        <p:spPr>
          <a:xfrm>
            <a:off x="395280" y="1557360"/>
            <a:ext cx="8353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: have the 6P draft indicate that an SF must specify which stastistics to coll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text (Xavi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provide a list of metrics and statistical operations used for the proper operation of the S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AD8C7502-D65E-42B6-A018-F3FC7E5E5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AECCB8C-3757-4A93-BDF0-08641F1D4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B96FFE9-3CE9-4BB4-8F64-CFDA5C750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D6BA8D07-3408-49D0-B808-72D72EB4E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ken to identify transactions in 6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ZoneTexte 11"/>
          <p:cNvSpPr/>
          <p:nvPr/>
        </p:nvSpPr>
        <p:spPr>
          <a:xfrm>
            <a:off x="395280" y="1557360"/>
            <a:ext cx="8353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: add an 8-bit “Token” field to the 6P hea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Token nee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the ACK be used (corollary: what ACK are we talking about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 child ask more cells before receiving an 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695576DA-3F66-44E5-86F1-87F9773E2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5CC66F5-2C6E-4E09-80B2-EA7B4C051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1CC40C3-A276-442A-82E7-99D5CA137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5F1CE86-5496-4AF7-AFE5-D2D625044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ing 6P transactions from recei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Ellipse 1"/>
          <p:cNvSpPr/>
          <p:nvPr/>
        </p:nvSpPr>
        <p:spPr>
          <a:xfrm>
            <a:off x="826920" y="5300640"/>
            <a:ext cx="936720" cy="9367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Ellipse 8"/>
          <p:cNvSpPr/>
          <p:nvPr/>
        </p:nvSpPr>
        <p:spPr>
          <a:xfrm>
            <a:off x="826920" y="1557360"/>
            <a:ext cx="936720" cy="9349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4" name="Connecteur droit avec flèche 3"/>
          <p:cNvCxnSpPr>
            <a:stCxn id="172" idx="0"/>
            <a:endCxn id="173" idx="4"/>
          </p:cNvCxnSpPr>
          <p:nvPr/>
        </p:nvCxnSpPr>
        <p:spPr>
          <a:xfrm flipV="1">
            <a:off x="1294920" y="2491560"/>
            <a:ext cx="1080" cy="280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ZoneTexte 11"/>
          <p:cNvSpPr/>
          <p:nvPr/>
        </p:nvSpPr>
        <p:spPr>
          <a:xfrm>
            <a:off x="2556000" y="184464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ow can B (parent) re-claim cells it has previously allocated to 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7621443-0E0D-47A5-8652-628BA194C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38FDBBC-962B-4233-98AF-218A0CB00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5E831FB-8F70-4EA4-AF71-BCA4FD6B6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D98B09D-6D14-4E17-A3C7-DA1457B2A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P behavior at boo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ZoneTexte 11"/>
          <p:cNvSpPr/>
          <p:nvPr/>
        </p:nvSpPr>
        <p:spPr>
          <a:xfrm>
            <a:off x="395280" y="1557360"/>
            <a:ext cx="8353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ZoneTexte 11"/>
          <p:cNvSpPr/>
          <p:nvPr/>
        </p:nvSpPr>
        <p:spPr>
          <a:xfrm>
            <a:off x="395280" y="1557360"/>
            <a:ext cx="8353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cell should 6P traffic be sent through, in particular at the start of a networ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tisch-minimal cel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R1 cel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s grant cells immediat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223354E9-A860-4FC1-B0DF-DE794FF1E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FBBEACF-D665-43D8-8B99-32426FC3B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 W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ummary is only meant to point you in the right direction, and doesn't have all the nuances. The IETF's IPR Policy is set forth in BCP 79; please read it careful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rief summar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participating with the IETF, you agree to follow IETF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aware that a contribution of yours (something you write, say, or discuss in any IETF context) is covered by patents or patent applications, you need to disclose that f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understand that meetings might be recorded, broadcast, and publicly archiv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further information, talk to a chair, ask an Area Director, or review the follow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9 (on the Internet Standards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25 (on the Working Group process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78 (on the IETF Tru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79 (on Intellectual Property Rights in the IET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B649D9FD-FA88-4E4F-8E70-89CBB30AE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F19A44C-002A-43DE-9543-A3F0BF73E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8E9CDA7-EF9E-430B-95F3-2A6B75FBD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18DFAA3-5E19-48C9-916D-E9DA2D383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out handl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ZoneTexte 11"/>
          <p:cNvSpPr/>
          <p:nvPr/>
        </p:nvSpPr>
        <p:spPr>
          <a:xfrm>
            <a:off x="395280" y="1557360"/>
            <a:ext cx="8353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ZoneTexte 11"/>
          <p:cNvSpPr/>
          <p:nvPr/>
        </p:nvSpPr>
        <p:spPr>
          <a:xfrm>
            <a:off x="395280" y="155736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: roll back transaction at both ends using a IANA_6TOP_CMD_ROLLBACK command (same as HTTP reset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2247B8D-8273-448B-832C-4C4F1DF14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D6023DB6-854D-4AEC-AA19-1309355AC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41C7DFA-7D0A-47FB-850E-422DA3957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5DBC4BCA-8D30-4CD7-BD43-5D6016561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ry handl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ZoneTexte 11"/>
          <p:cNvSpPr/>
          <p:nvPr/>
        </p:nvSpPr>
        <p:spPr>
          <a:xfrm>
            <a:off x="395280" y="1557360"/>
            <a:ext cx="8353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ZoneTexte 11"/>
          <p:cNvSpPr/>
          <p:nvPr/>
        </p:nvSpPr>
        <p:spPr>
          <a:xfrm>
            <a:off x="395280" y="155736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make sense for the SF to retr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FC5A4D1-A23C-4FCA-9D7C-54961D4E2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EA6A7E0-9882-4599-8163-B42E6EE95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8476CD72-5FE5-49B8-B38A-373795F1D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EACDD4C-1276-47A6-9069-905A21C2A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tMap vs. explicit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ZoneTexte 11"/>
          <p:cNvSpPr/>
          <p:nvPr/>
        </p:nvSpPr>
        <p:spPr>
          <a:xfrm>
            <a:off x="395280" y="1557360"/>
            <a:ext cx="8353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ZoneTexte 11"/>
          <p:cNvSpPr/>
          <p:nvPr/>
        </p:nvSpPr>
        <p:spPr>
          <a:xfrm>
            <a:off x="395280" y="1557360"/>
            <a:ext cx="8353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“full” bundle to children, included active and inactive ce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negotiate only the bitmap of active and in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 add 0 asks for a status of what’s 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ransactionally or repeat to death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7F20782-D855-4F93-B82B-00532BA4E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85891F2F-D9CF-44F3-A980-138B2F01F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B9D06D6-19C7-4195-A569-B6E4FE46A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7677AE0-E452-444D-9AC5-D14B79F7B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ZoneTexte 11"/>
          <p:cNvSpPr/>
          <p:nvPr/>
        </p:nvSpPr>
        <p:spPr>
          <a:xfrm>
            <a:off x="395280" y="1557360"/>
            <a:ext cx="8353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ZoneTexte 11"/>
          <p:cNvSpPr/>
          <p:nvPr/>
        </p:nvSpPr>
        <p:spPr>
          <a:xfrm>
            <a:off x="395280" y="1557360"/>
            <a:ext cx="83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there be multiple SFs on a nod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 between 6P/schedule and neighbor tabl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OB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8A0B50B7-9C91-401D-A85F-D5075E9A7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6ACA8B93-3019-4120-BC24-5D3D2626A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9AC2929-88DC-4717-8E8A-398E51464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153F456-DA65-4E0B-96CD-3F252DA84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O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324000" y="1341360"/>
            <a:ext cx="8001000" cy="39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cel Webex 25 March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127817E-204E-4A5B-BD7E-193225ABE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F7F91F9-AEEB-4409-83C6-9E06C8BFA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590EC78-5789-4C60-B48C-C30C1DDF5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AE8A11E1-10D2-4374-9621-7208DA0D6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90520" y="5335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Reminder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Minutes are taken *</a:t>
            </a:r>
            <a:br>
              <a:rPr sz="4000"/>
            </a:b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This meeting is recorded ** </a:t>
            </a:r>
            <a:br>
              <a:rPr sz="4000"/>
            </a:b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Presence is logged ***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80880" y="4724280"/>
            <a:ext cx="8458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Scribe; please contribute online to the minutes a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://etherpad.tools.ietf.org:9000/p/6tisch?useMonospaceFont=tr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Recordings and Minutes are public and may be subject to discovery in the event of litigat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*** From the Webex lo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7386390-4C7E-4048-915A-A7AD683D5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6C922267-7727-4A14-A2E2-00ED54484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B5A3F80-3D6C-4EA2-975E-20DA14BFC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FFE8224-B9F1-43C9-A78E-7A947AFB7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22EEE65-BFAC-42C0-BB34-88D93B80A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46836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395280" y="1563840"/>
            <a:ext cx="8651880" cy="46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istriv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3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da bash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roval minutes from last mee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c and Charter new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ing IETF 9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0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da, who’s coming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WG of interest &amp; intera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 and IANA needs and stat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0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P and SF0 iss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30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ministriv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2D2D8284-5279-4193-AE61-45727B792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83EE7540-8171-47D5-9D35-3446F1251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3839DB7-4C27-4053-96F3-1BD29DCBF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6484AD0F-CAE0-45B0-8867-827BF2E80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min is triv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08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roval Agen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roval minu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c and Charter Ne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ED5EE92-9D22-4D8E-B3D2-EF302840A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8865818-F83E-4FAE-B052-921A8844C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501DEB7-60ED-49B4-B112-93E127E01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8781BFA-6B0F-4374-86C0-E30C96265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ter Ne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3808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have a new charter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tools.ietf.org/wg/6tisch/charters?item=charter-6tisch-2016-03-04.t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F76114B-DF4A-45C3-9BA5-F14B88D4D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7197B4E-D453-402C-A90C-FAB51E6D6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290358CC-31B1-44D0-B13D-D1FB4564A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6CCB47D-8644-479A-8524-DBE18C979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ZoneTexte 1"/>
          <p:cNvSpPr/>
          <p:nvPr/>
        </p:nvSpPr>
        <p:spPr>
          <a:xfrm>
            <a:off x="698040" y="333360"/>
            <a:ext cx="7511040" cy="62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- Produce a specification of the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6top sublayer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hat describes th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protocol for neighbor nodes to negotiate adding/removing cells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. Thi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work will leverage cross participation from IEEE members including th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EEE 6TiSCH Interest Group (IG 6T) to define protocol elements an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associated frame formats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- Produce a specification for a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default 6top Scheduling Functio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cluding the policy to enable distributed dynamic scheduling of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slots for IP traffic. This may include the capability for nodes to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appropriate chunks of the matrix without starving, or interfering with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other 6TiSCH nodes. This particular work will focus on IP traffic si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work on tracks is not yet advanced enough to specify thei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- Produce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to the DetNet WG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, detailing 6TiSCH chunks an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ks, and the data models to manipulate them from an externa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oller such as a PCE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- Produce a specification for a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ecure 6TiSCH network bootstrap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, adapte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to the constraints of 6TiSCH nodes and leveraging existing art whe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possible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- Keep updating the "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6TiSCH architecture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" that describes the design of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6TiSCH networks. This document highlights the different architectura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s, signaling and data flows, including the operation of the network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 the presence of multiple LBRs. The existing document will b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augmented to cover dynamic scheduling and application of the DetNet work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but will not be delivered within this round of chartering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- Producing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YANG Data Models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o manage 6tisch is foreseen, but left to 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r phase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3T05:55:25Z</dcterms:created>
  <dc:creator>Thomas</dc:creator>
  <dc:description/>
  <cp:keywords/>
  <dc:language>en-US</dc:language>
  <cp:lastModifiedBy>Thomas Watteyne</cp:lastModifiedBy>
  <dcterms:modified xsi:type="dcterms:W3CDTF">2016-03-11T14:53:49Z</dcterms:modified>
  <cp:revision>9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