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181496-2445-4A13-AC24-41682F15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13DD782-10CC-4963-A5A1-0B93DF6B6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39F902C-DEE2-4185-94C0-5C37FE0A3E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7BDDFF-1CC1-421F-B5B8-AA07D63BD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82D9445-1BB2-4CDF-B551-0B91406720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0D4FADE-FBBD-4AAC-8F04-7079EA2C8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768EC29-480D-4636-900B-7AD8EC7E3D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AAB6AE6-7046-4416-B631-13123DF9E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6CAD244-710E-4FB0-B36E-13B5877D8F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3E80BDB-ADDB-465E-9613-5C8EC092EE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886D6D4-C4F9-487E-B1CF-5241271CC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0E39758-DE27-4B34-B562-ECBCBD84C4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3BB8ECA-7A03-43B6-AEA0-239CF6D8B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C930D99-1D25-4D08-B90E-1B65C3324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D2FC3AC-140B-4F9B-A719-55EDE2FDAC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095E327-B6C3-4E67-AF82-939AD8A0F5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3986E26-931D-49E6-8929-E2083A3CAB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FF7BDA9-6703-4549-A189-76E42BB37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CD7D38C-BB88-4B3C-B48B-10BC4576E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5F972D2-7EA8-46CA-90CA-280F37A3E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DF321E1-E17B-4E6F-8A38-9F82077E3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55C2ED-F629-4CD6-9DBE-2C2B072D47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2277EC-80BA-4D84-AB57-DAC99897E8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A38EDB5-0D71-4575-9E6A-7BF5CD274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CC313DD-4A93-4C3D-8B88-826AE63F4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0461621-588E-4B20-A556-4558296C47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B77E346-A368-4B9F-8ED0-47330D67C7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9656-E577-42B9-9FC6-A0A09F56F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0EE8-99D8-4D5A-BD57-C7607C6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17E1-BDA8-461E-B607-9E335AB6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90AE-3796-4AA5-956C-2729ED08B6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0D1D-058B-4D09-A6E9-AC475DE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1661-2726-4798-8A7B-35653BC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5880-F976-4331-BB5F-C6551DF5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9913-4A68-4329-B238-0E546EB8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29A6-9607-4506-AAC1-5DDC3DA4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5993-D89E-4B23-9F36-CFCA1A97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5B50-07C5-415F-9E21-68F713EC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BDD5-9576-47BE-B7DB-272B89E9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FD29666F-C944-4C31-AE6F-15D55E79044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0C288E17-E2DC-4E0F-BD9C-F78EC0E6BF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atatracker.ietf.org/meeting/95/agenda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wg/6tisch/charters?item=charter-6tisch-2016-03-04.tx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March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42C308A-5DF9-40E5-8EDD-345486F2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96841FC-2C39-4B94-AEB1-430E296F8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9EA7732-BF70-4A43-8535-EA1E40FC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F84F440-00E3-416B-B77A-2087E3C7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atatracker.ietf.org/meeting/95/agenda.htm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PRELIMINARY!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TiSCH WG meeting Mon 14.00-15.30 (+4 hours in C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ant dat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1 (Monday): Internet Draft submission cut-off (for all drafts, including -00) by UTC 23:59, upload using IETF ID Submission T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1 (Monday): Draft Working Group agendas due by UTC 23:59, upload using IETF Meeting Materials Management T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5 (Friday): Early Bird registration and payment cut-off at UTC 23:5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6600" indent="-266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-03-28 (Monday): Revised Working Group agendas due by UTC 23:59, upload using IETF Meeting Materials Management Too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0AC2CB6-2E2A-49FB-AF7D-CF139FED3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8A801FE-507F-45B9-A8F9-5AFDA304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65C7E23-5DCA-4A20-85FE-A456E6AC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5177A1B-A478-453F-8EBF-9D48B4280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shlits before IETF9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raft-dujovne-6tisch-6top-sf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(rename) draft-wang-6tisch-6top-sublay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up draft-ietf-6tisch-termi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list at IETF9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draft-dujovne-6tisch-6top-sf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draft-wang-6tisch-6top-sub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Paris plugtests and announce Berlin plug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list after IETF9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, deploy, evalua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 and IANA needs and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7D6F663-21F3-4B7E-B622-2893C896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AB2D8BF-89E1-4246-B6ED-9A5B0D200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AB1902-1D42-4351-A237-056542A0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EC6864-2D51-413F-A7B6-4BB6EC0A7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lvl="1" marL="741240" indent="-284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6TiSCH Payload IE Group 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1, the vendor specific ID is already defined in the standard and needs no further action from 6tisch.  It uses the Payload IE Group ID = 0x2 followed by 3 octets of the Vendor’s OUI.  Two options here are to request an OUI from the IEEE RAC, or request a company ID from the IEEE RAC.  Regardless, the vendor specific ID adds 3 octets to the IE, which is not a problem if the IE is seldom used, such as configuring the netw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2, the ID is allocated to IETF via IANA. There is a defined process to obtain a Payload Group ID (http://www.ieee802.org/15/ANA.html), it basically starts with a formal request from an IANA officer.  The issue I have with this choice is that we have only 8 addresses left before going onto extended addresses, so we really need to make sure that each of the 8 addresses will be properly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3, the ESDU IE is meant to send a message to another node, it has no inherent formatting, the other node must already understand how to use the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P and SF0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s for SFs and Relo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ken to identify transactions in 6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6P transactions from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P behavior at bo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out hand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y hand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Map vs. explicit c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ADC1C97-E9BE-4562-A0F4-52EC8FAA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5442CCF-D934-43BD-BD77-5B8F686F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D18CC71-BC0C-4242-AEF6-6BC09BA3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7BADAEB-0F0D-4364-9BF1-E1FD51E96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for SFs and Re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ZoneTexte 11"/>
          <p:cNvSpPr/>
          <p:nvPr/>
        </p:nvSpPr>
        <p:spPr>
          <a:xfrm>
            <a:off x="395280" y="155736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have the 6P draft indicate that an SF must specify which stastistics to col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ext (Xavi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provide a list of metrics and statistical operations used for the proper operation of the S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D3756A-2DBD-409B-9CD0-25A90628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37BBC2E-0C73-4A5F-983F-08FDBBCE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DF1389B-7B49-4654-BC43-1476C91C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142F21B-2B65-4CA8-AEF8-B04B9EFD9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ken to identify transactions in 6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ZoneTexte 11"/>
          <p:cNvSpPr/>
          <p:nvPr/>
        </p:nvSpPr>
        <p:spPr>
          <a:xfrm>
            <a:off x="395280" y="155736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add an 8-bit “Token” field to the 6P h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oken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ACK be used (corollary: what ACK are we talking abou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child ask more cells before receiving an 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C76B459-B446-4A47-B786-A132BE09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A736669-42EE-4DA7-A0B2-6270E0B2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C8B25C9-8C6B-4A2F-83AB-348B2E9F1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8269869-FD7A-46C1-A97E-729CDD8B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6P transactions from recei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Ellipse 1"/>
          <p:cNvSpPr/>
          <p:nvPr/>
        </p:nvSpPr>
        <p:spPr>
          <a:xfrm>
            <a:off x="826920" y="5300640"/>
            <a:ext cx="93672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Ellipse 8"/>
          <p:cNvSpPr/>
          <p:nvPr/>
        </p:nvSpPr>
        <p:spPr>
          <a:xfrm>
            <a:off x="826920" y="1557360"/>
            <a:ext cx="936720" cy="934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Connecteur droit avec flèche 3"/>
          <p:cNvCxnSpPr>
            <a:stCxn id="172" idx="0"/>
            <a:endCxn id="173" idx="4"/>
          </p:cNvCxnSpPr>
          <p:nvPr/>
        </p:nvCxnSpPr>
        <p:spPr>
          <a:xfrm flipV="1">
            <a:off x="1294920" y="2491560"/>
            <a:ext cx="1080" cy="280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ZoneTexte 11"/>
          <p:cNvSpPr/>
          <p:nvPr/>
        </p:nvSpPr>
        <p:spPr>
          <a:xfrm>
            <a:off x="2556000" y="1844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can B (parent) re-claim cells it has previously allocated to 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D8449F0-DBB3-496C-A9AC-155E9ED7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7392AF4-F8D7-4E59-9D9B-E1866E13D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D0025D5-E32D-4451-96A0-1E876AA1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F1D733-1413-4B49-9D91-9711E573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P behavior at b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11"/>
          <p:cNvSpPr/>
          <p:nvPr/>
        </p:nvSpPr>
        <p:spPr>
          <a:xfrm>
            <a:off x="395280" y="155736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ell should 6P traffic be sent through, in particular at the start of a net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tisch-minimal ce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R1 ce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grant cells immediat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28D2FF3-7872-485A-85A0-6A6E8B90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DED0BF7-291C-492E-B73B-EC5A2CE3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6453B3E-5608-43EF-9D53-11313BC36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1076FF3-0805-41CD-8D17-9BB19206F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1852B4-6682-412D-A2E6-074D80F6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5BFEE7-E60D-4ADB-9034-25DD120F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out hand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395280" y="1557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roll back transaction at both ends using a IANA_6TOP_CMD_ROLLBACK command (same as HTTP rese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9493414-4FA9-497D-B5A9-A6F9F874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47F8E9D-9031-4BD1-B5D0-A8F422FE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225E52E-F902-4DDE-9CC5-AD9714E3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AC60744-4393-4F0F-9865-350437C2E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y hand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ZoneTexte 11"/>
          <p:cNvSpPr/>
          <p:nvPr/>
        </p:nvSpPr>
        <p:spPr>
          <a:xfrm>
            <a:off x="395280" y="1557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make sense for the SF to retr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B47DF4F-6368-483B-B7E1-BF2043843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64E71E8-9E4E-4D87-8DE9-60E4BB948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41D4CDD-412F-40F8-B784-9CD2C93E1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45387D-6494-492B-ACE0-691F4AC0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Map vs. explicit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ZoneTexte 11"/>
          <p:cNvSpPr/>
          <p:nvPr/>
        </p:nvSpPr>
        <p:spPr>
          <a:xfrm>
            <a:off x="395280" y="155736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full” bundle to children, included active and inactive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negotiate only the bitmap of active and in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add 0 asks for a status of what’s 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ransactionally or repeat to de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FF3E52B-EDD6-46D7-9129-0FB54270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6DEAA7-1368-46C0-B33C-529B9B228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20EBA0-85BF-4328-89C5-071FBC88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79477F3-F4E5-426F-9451-7A94299A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ZoneTexte 11"/>
          <p:cNvSpPr/>
          <p:nvPr/>
        </p:nvSpPr>
        <p:spPr>
          <a:xfrm>
            <a:off x="395280" y="1557360"/>
            <a:ext cx="8353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ZoneTexte 11"/>
          <p:cNvSpPr/>
          <p:nvPr/>
        </p:nvSpPr>
        <p:spPr>
          <a:xfrm>
            <a:off x="395280" y="1557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re be multiple SFs on a no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6P/schedule and neighbor ta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2F1DAAD-C798-4049-853A-2DB1AF40D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9BDDBD-4321-4085-8677-88B6F123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EE654F0-3C95-4955-9187-87D6F5F3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EDAC9D3-8AED-42F6-9491-DFE62205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24000" y="134136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cel Webex 25 Marc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007B421-C418-4D52-801C-98C54416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E0B5DF7-316E-4E4D-88D1-E2266F265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D331F47-85E6-4E10-B39D-887F10AA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2DF83A7-7816-4C08-8CBF-1858F8F8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80880" y="47242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cribe; please contribute online to the minutes 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Recordings and Minutes are public and may be subject to discovery in the event of liti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* From the Webex lo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9C3F806-2372-4DEE-814B-F9592FDE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56DE563-4F04-4E06-8F73-E4B67089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A84211-C27D-4626-9C6A-7C841F0D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1EC38B2-9F62-4A64-8F4A-8DA4DD2C0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CAD9B71-85F2-4EF4-A8E9-A3BADC8F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95280" y="156384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 and Charter n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ing IETF 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, who’s coming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WG of interest &amp; inter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and IANA needs and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P and SF0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0BDEC07-764C-44E2-9A8E-5AB457A4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A06B530-A7B7-42B4-B037-BF40CCB6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F928059-4B6F-496A-A1B2-996A75965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75EA550-DFBD-42BA-ADE5-5060BBF3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and Charter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F0ED667-C404-41CD-A7F1-FE8A48EA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74ED32B-20E0-4D2D-A5C8-D7C377F4B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5E4CB94-0111-444D-ADD6-62814EE5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B68CF2B-EA13-4981-BD67-6923BFC2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have a new chart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ools.ietf.org/wg/6tisch/charters?item=charter-6tisch-2016-03-04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90790C4-ADBE-4A8C-9EBE-B84C623F5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6EC0A0-43E5-4E91-A9B8-0BFE48C6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5FCBCAD-3240-487F-BCBF-46BF85D4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BD693EB-9D0D-4B60-A99B-9CD97955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ZoneTexte 1"/>
          <p:cNvSpPr/>
          <p:nvPr/>
        </p:nvSpPr>
        <p:spPr>
          <a:xfrm>
            <a:off x="698040" y="333360"/>
            <a:ext cx="7511040" cy="62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a specification of the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6top sublayer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hat describes th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ocol for neighbor nodes to negotiate adding/removing cell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. Thi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 will leverage cross participation from IEEE members including th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EEE 6TiSCH Interest Group (IG 6T) to define protocol elements an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ssociated frame format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a specification for a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6top Scheduling Fun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cluding the policy to enable distributed dynamic scheduling o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lots for IP traffic. This may include the capability for nodes t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ppropriate chunks of the matrix without starving, or interfering wit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 6TiSCH nodes. This particular work will focus on IP traffic si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ork on tracks is not yet advanced enough to specify thei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to the DetNet WG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tailing 6TiSCH chunks an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ks, and the data models to manipulate them from an extern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oller such as a PC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e a specification for a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e 6TiSCH network bootstrap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, adapt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o the constraints of 6TiSCH nodes and leveraging existing art whe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Keep updating the "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6TiSCH architectur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" that describes the design o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6TiSCH networks. This document highlights the different architectur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s, signaling and data flows, including the operation of the networ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 the presence of multiple LBRs. The existing document will b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ugmented to cover dynamic scheduling and application of the DetNet wor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but will not be delivered within this round of chartering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Producing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YANG Data Model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manage 6tisch is foreseen, but left to 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r phas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Thomas Watteyne</cp:lastModifiedBy>
  <dcterms:modified xsi:type="dcterms:W3CDTF">2016-03-11T14:53:49Z</dcterms:modified>
  <cp:revision>9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