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78D27BC-650C-41E2-8965-64DFC141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4281861-7331-43BA-BDAC-3B5DE28B40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2CB90-F169-4D71-8482-8CD49B86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D9057-ECAE-493A-9F27-F58B159AF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7EE7C-A788-4AC5-BF0B-FB3942A9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10BEB-4A0B-4CA7-9EF7-C10815B2F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A876DA8-14BF-4E7C-B91A-FE52970C0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238690F-D2CD-4EF8-B98C-C093CA789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12D6048-CEB9-4A6C-A4E1-9B0CA04A2A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67F5C72-B00E-4C4C-882F-FB540DF20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0576461-007E-489D-B644-7EBDB37B7F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0800540-B78B-42BA-9358-DD332A015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9F9560D-A460-4169-94AD-71E3631A92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664485F-5D32-463B-9AEF-FDE9817A3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D2F6857-25DB-4A46-92CA-FCE061472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8CA40-558D-42F7-ADC6-F800A8E5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D3148-CCCF-44E8-93E4-7B97ECF2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BCF5E-E6F3-49B8-90C8-31D4571E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B99C2-FF75-4570-9673-AE4F096E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AE2D-A3E2-46C4-90F7-E5B62B47E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8409-A88D-494E-AF10-8481B7753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B2C5-DA1A-4B10-B3BA-81344FE42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4DDF-CF05-4A62-B8E0-D23B8AC27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C7AE-484D-4D4F-9B38-98B0BC704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CD6E-4DB3-4524-9F90-478B4F61F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E481-54C0-4913-BFAA-DD1A72497D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1812-99B4-40CD-9ABE-8C8F71BC0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0582-3FA2-4C33-8444-9CEB3EA21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5622-42BA-47BA-8763-34A03C7B7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ADB2-A54E-4E2C-94FE-3B6D9081D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65F0-80DD-4123-88B8-0BFEC1D46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6C12-5A92-49EB-BA0D-8275737103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9CCB-A6C4-462E-8E70-FA473532F9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3264-5B2C-4FF9-A943-D8F9981DE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B641-8290-4BAA-9E75-396566FE0A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D962-FE03-4EF8-B10A-EA5C652229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FE0-E83A-4015-AE06-7FC6EC7E44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E34-37CB-44D2-9495-5F4822DD2F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217-B6FB-4D65-81EC-A424BD51B3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099-FE41-452D-8DD7-0FBC443ABA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D20-0E69-423E-9510-973040148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2004-3DA8-448D-BACD-B6BBF9A8D2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0D4-F37F-437B-BE67-50805EC58B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B3C-0A48-4877-ABE1-1D19659D76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050-9D54-4CA0-B7BA-B1873A393A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DFE-CFD0-495F-9F80-B3FEC9582C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239-E4F2-4A71-A72F-95460B36F9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2EB-E232-4BFD-BA8F-0630911B75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B95-4D38-4892-832C-20223E7853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7A7E8-0DD7-4C21-907D-0DEB297A6C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D718E-6748-48EB-8059-39DA4A353E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E607E-FFA3-4E5E-B8BF-F9206679D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2C1B-A45A-412C-A944-2508BAF255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F0689-5AA8-4728-B8A4-16EB876574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BB278-9342-485D-A0A0-252443A939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AB9E5-A41B-4292-8221-D7A887D22C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0AA0B-8A8A-4560-83D7-EE3FC8BFE0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94D97-21EE-4146-8671-DED2208316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94A48-1998-4F1C-8781-EB84870222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F545E-9E90-4B80-9501-9B7780B20D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3AA74-C33F-4EBA-9A13-043B76E3D5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BE5CD-5F36-428E-8791-4F792270C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D599-A4C1-48E3-ABC8-005B7AE74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7D92-66A2-4A73-BC2E-DEFDBB606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F859-5170-44A9-AE4A-84A8651A4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ED86-1A18-420D-AE91-22E134ADD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7C34-0BB9-4137-AA1A-31BFEC053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1761229-3DC0-42EC-92C7-CCE1E1E1BF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6CAC6964-8E7E-40E7-8932-C84355F5D2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2"/>
          <p:cNvSpPr/>
          <p:nvPr/>
        </p:nvSpPr>
        <p:spPr>
          <a:xfrm>
            <a:off x="160920" y="6400800"/>
            <a:ext cx="254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image1.png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 fontScale="71000"/>
          </a:bodyPr>
          <a:p>
            <a:pPr marL="243360" indent="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457680" y="6350040"/>
            <a:ext cx="360360" cy="372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GB" sz="1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FEE71680-22D5-4793-8253-257836A2023D}" type="slidenum"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6600" y="6400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@IETF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1D0C384-4419-45C7-A3CC-845FFE08C3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review-ietf-6tisch-minimal-19-opsdir-lc-kumari-2017-02-12/" TargetMode="External"/><Relationship Id="rId2" Type="http://schemas.openxmlformats.org/officeDocument/2006/relationships/hyperlink" Target="https://datatracker.ietf.org/doc/review-ietf-6tisch-minimal-19-secdir-telechat-kivinen-2017-02-15/" TargetMode="External"/><Relationship Id="rId3" Type="http://schemas.openxmlformats.org/officeDocument/2006/relationships/hyperlink" Target="https://datatracker.ietf.org/doc/review-ietf-6tisch-minimal-19-genart-telechat-carpenter-2017-02-04/" TargetMode="External"/><Relationship Id="rId4" Type="http://schemas.openxmlformats.org/officeDocument/2006/relationships/hyperlink" Target="https://datatracker.ietf.org/doc/review-ietf-6tisch-minimal-17-secdir-lc-kivinen-2016-12-22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 March 2017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81E33-EA98-472A-BC5F-C5E7287088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21A6-D4BA-474A-8BB9-98E95D7DE1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minimal-re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92000" y="16527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d rekey from minimal to new docu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for CoMI managed access to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key is managed by slow process of JRC reaching out to all nodes and writing new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new keys includes timeout on old key, after switch-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s accept traffic from old keys and new keys, uses old keys for transmission until use of new key is se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 over from old to new keys triggers expiration of old keys based upon tim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addresses are also managed in this interface, short addresses timeout based upon AS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can garbage collect short-addresses by initiate reke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ING WG adoption and co-auth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E2073-5A36-428C-963A-B2CF224465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0C3A0-9890-48E3-8FF9-FD3D895320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join-enhanced-bea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92000" y="1652760"/>
            <a:ext cx="734400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ed for definition of extension to enhanced-beacon made clear by join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 IANA registry created by draft-kivinen-802-15-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cludes some bits to help hosts (aka non-RPL leaf nodes) to find correct network, and give hint about using unicast Router Solit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 ID is based upon SHA256 of DODAGID to identify net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s that EB is not encrypted, so inappropriate to put much information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s bit to indicate if sender is available as a Join Proxy; L3 address is implied by SLAAC configuation of Link-Local address from EUI-64 of sen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 algn="ctr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EKING WG adoption and co-auth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Cells in DELETE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484280"/>
            <a:ext cx="822816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Version| T | R |     Code      |     SFID      | SeqNum|  GEN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Metadata            |  CellOptions  |   NumCells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CellList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Cells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The number of cells from the specified CellList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wants to delete from the schedule of both sender and receiv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llList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A list of 0, 1 or multiple 6P Cell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 The CellLis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aque set of bytes, sent unmodified to the SF. 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MMENDED format of each 6P Cell is defined in Section 4.2.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F MAY redefine the format of the CellLis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"/>
          <p:cNvSpPr/>
          <p:nvPr/>
        </p:nvSpPr>
        <p:spPr>
          <a:xfrm>
            <a:off x="297360" y="5661000"/>
            <a:ext cx="85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say that NumCells MUST be equal to the number of cells in the CellLi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just remove the NumCells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1"/>
          <p:cNvSpPr/>
          <p:nvPr/>
        </p:nvSpPr>
        <p:spPr>
          <a:xfrm>
            <a:off x="-22392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6P ADD Request Format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  . . . . . . . . . . . . . . 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6P STATUS Request Format  . . . . . . . . . . . . . .  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6P LIST Request Format 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6P CLEAR Request Format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6P RELOCATE Request Format  . . . . . . . . . . . . .  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6P Response Format  . . . . . . . . . . . . . . . . . 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6P Confirmation Format 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6.  Clearing the Schedule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7.  Adding Cells with 2-step Transaction 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51280" y="1341360"/>
            <a:ext cx="280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ZoneTexte 1"/>
          <p:cNvSpPr/>
          <p:nvPr/>
        </p:nvSpPr>
        <p:spPr>
          <a:xfrm>
            <a:off x="380844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quest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sponse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Generic 6P Confirmation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6P Commands and Oper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Add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Dele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Retrieving the stat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Lis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Clearing the Schedu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Relocating a c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remote, Michael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: Xavi and Qin re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O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n mi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34F-6CA6-4C75-A3D8-DBF4C47C1F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0160" y="5331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…-6tisch-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AD9B75E-0BFA-4677-9FE7-7289D40C03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B146F47-D98E-4DF7-9956-7692C38A14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3F8BEFA-A86D-44ED-923D-2B6CD13BD9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D58DB8C-4BF7-4E87-A11B-4382012B66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38ECBDB-3A66-418C-94CA-70038D9020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5AC7E6E-EACF-4DD4-A6CC-2619312013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FBB9F1-A64A-4FAB-A4E6-8CF430B2EC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7EEB0D1-390B-4D7E-AC1B-7186CBC748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35A6314-A29F-411D-BB65-CDB1602FAB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2328A7-FB38-4AD4-8F99-09DCC0EEA1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752CD5-9F1A-4279-80B3-1857D3BEDA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 draft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 (Michael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 (Xavi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(Pasca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3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863BB68-3053-4349-944E-67EC86272A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B29FE5-DDFF-41A1-92B3-0F0AF52677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minimal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OPSDIR Last Call Review (of -20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2"/>
              </a:rPr>
              <a:t>SECDIR Telechat Review (of -19): Ha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3"/>
              </a:rPr>
              <a:t>GENART Telechat Review (of -19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4"/>
              </a:rPr>
              <a:t>SECDIR Last Call Review (of -17): Seriou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ART Last Call Review (of -17): Almost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5): Ready with N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3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team mee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s occurre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1-17, 2017-01-31, 2017-02-14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2-21 (extra), 2017-02-2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: 2017-03-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pres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ael Richardson, Tero Kivinen, Pascal Thuber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, Mališa Vučinić, Göran Selander, Toerless Eckert, Peter van der S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1520" y="5538960"/>
            <a:ext cx="778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Recent minutes so far: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	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https://www.ietf.org/mail-archive/web/6tisch-security/current/msg006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22"/>
          <p:cNvSpPr/>
          <p:nvPr/>
        </p:nvSpPr>
        <p:spPr>
          <a:xfrm>
            <a:off x="8132040" y="6245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fld id="{38BBA0A5-8713-45FD-B13C-BCFA1BDD6EF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hape 23"/>
          <p:cNvSpPr/>
          <p:nvPr/>
        </p:nvSpPr>
        <p:spPr>
          <a:xfrm>
            <a:off x="6553080" y="6245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hape 24"/>
          <p:cNvSpPr/>
          <p:nvPr/>
        </p:nvSpPr>
        <p:spPr>
          <a:xfrm>
            <a:off x="457200" y="55656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raft-ietf-6tisch-minimal-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hape 25"/>
          <p:cNvSpPr/>
          <p:nvPr/>
        </p:nvSpPr>
        <p:spPr>
          <a:xfrm>
            <a:off x="792000" y="1650960"/>
            <a:ext cx="73440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45000" bIns="45000" anchor="t">
            <a:spAutoFit/>
          </a:bodyPr>
          <a:p>
            <a:pPr marL="212760" indent="-212760"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one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key provisions removed from this to make it as minimal a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updates from OSCOAP and EDH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me complications to proxy mechanism as a result of changes in EDHOC relating to SIGMA-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a 6TiSCH-specific CoAP option for stateless prox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s on Core list with Klaus Hart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passive flow in the asymmetric key mode triggered by a C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rewriting of the text to make it more explic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7415B-DF1A-47E1-937D-098B05AD2A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5DD48-6B3F-442D-B146-60F1953AEE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dtsecurity-secure-j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92000" y="16509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is the zero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ing text from this document to move it to minimal-security as appropri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ing abandonning fully passive mode for 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edge uses minimal EDHOC process to build secure relation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drives enrollment, providing certificate via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some wiggle room as to whether ownership voucher is transfered during EDHOC process vs occurs in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7-03-03T14:30:24Z</dcterms:modified>
  <cp:revision>10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