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2BAD767-48A9-40CF-9BC1-9F2330F0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E0C2A2E-0F61-4538-8244-12F5FF4BE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304A0-1C0F-4981-AAC0-50A055E81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5D50E-0350-485C-A168-8F5A920E7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AA50C-B82C-4487-84AB-92F060F3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18FC2-64A3-4468-B1B0-E1E495F45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1ABC16D-F721-41E5-BB5B-CCB6DDE67A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BDD1DCF-28AC-466F-96CD-E14C867342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00AB515-1CE8-4F95-AE31-0657444565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99A5939-843E-4B8D-8219-1D5D35E7D9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B7CC803-28CB-493D-88E2-268A003E89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183C09E-02E7-46AC-B483-7D83004D17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C9B5F42-55D5-41D1-9A76-B33B30D2F6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B5DDD7C-5A7F-4D30-BD1D-0FAE09BBB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ACF922B-EF7A-43F0-A40A-162782C54A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2AB39-81C1-4A1C-A0E9-DDBEE9E29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C7227-22D4-4B08-9F31-8A306CDC6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60132-1927-4506-835E-CA477D14D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5C0BE-54BA-497A-81F3-104C297D1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DB6C-5675-4508-AF12-219E68D3E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6E82-0761-461E-87C7-F4817CE64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3A73-B6B2-41F5-9A40-1D0E42D0C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F1B1-8027-4680-BF86-963489BC2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106C-A8B9-4E71-94D9-C8AA36792C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ADC2-6D62-4BA0-9A09-5B5E9EB6E1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6C0DA-C44B-4EBA-B97C-A84ACB3309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9653-EF55-4774-A6AF-8A3917C304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D6A5-BF69-466A-82C2-69BD60A99D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847E-9B21-40DD-A197-F88462E587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8C61-D4B8-4DAE-AF54-99E205E78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6F41-6266-4B81-A5DE-40159240A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A490-845A-468D-9629-1FA1A9546C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CD7C-FC22-46C7-A51B-EC9983B5A5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94B3-9D33-4F23-B2DE-90C4FDDFC3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0671-534B-4512-A32A-218EBB816C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D4CF-9F8D-4324-B45F-E1AA1F1204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ECF-BF8E-4D3B-AFE6-4F91C38DE1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E62-08B1-461F-A199-B0CE0D4A99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8EB-0F30-44D0-89A6-99CA5ABB80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FC2-F722-4B45-A81C-E74EEAF8A3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C9B-7C43-4852-855A-6411C8B116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5DAE-BEE4-4A67-8042-E1F2187141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672-B0EB-4433-AA60-07857245FC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E87-61DD-45E3-8C9E-224F30EE46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C35-2598-43A8-A330-F8EE5E18CB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BB7-FF13-4CC8-868A-8E6358D9A7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635-8603-4B64-AFD3-C040A85152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E8B-969A-4E41-B620-1C1ADCA212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824-1364-4772-8064-431E671A95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A7B14-45D9-4F78-8F75-5AF948DF91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FECE0-5C49-4E60-86B8-1864CD0466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21A82-C576-4DA4-A99C-9532E4648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7056-5E8B-4AD7-8534-909E23D126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09D0B-23EE-4AF6-A7C8-6B2D7B0CF4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8D0A4-6E2E-4E23-B562-58119FC3B4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D7D93-8F16-44E2-935B-0FDB76200C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243D6-6656-456D-A2B0-DC4364263D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4334D-68CB-4E6B-8CB0-F92190D4EC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43194-3124-45D3-9A7D-A668931265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9523E-BD53-403B-A0A8-04F2AC4CD2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9B607-DD14-49C0-BD44-B1FCFD104E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3D9BB-5CF9-4793-9B0E-58C5DEADE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83A8-D467-40D7-AEAF-0BF3D0F71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C13E-F65D-4515-BB3F-C03426875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141F-17A7-4AC4-84C8-77C1701B0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5584-7356-499F-B589-3E5E1D6BA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FD7F-4004-4E42-9EE4-70DA45785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160560" y="6400800"/>
            <a:ext cx="26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C3D6791-2709-459B-9303-F5A7A793AB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60560" y="6400800"/>
            <a:ext cx="26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C82FCC5A-F671-4D52-B493-49E170F796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2"/>
          <p:cNvSpPr/>
          <p:nvPr/>
        </p:nvSpPr>
        <p:spPr>
          <a:xfrm>
            <a:off x="160920" y="6400800"/>
            <a:ext cx="254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image1.png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 fontScale="71000"/>
          </a:bodyPr>
          <a:p>
            <a:pPr marL="243360" indent="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457680" y="6350040"/>
            <a:ext cx="360360" cy="372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en-GB" sz="1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C017E6A5-C338-464C-B6D5-BD112CF4E898}" type="slidenum"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56600" y="64008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@IETF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F157683D-7DBE-4B4F-8281-9E1E540228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therpad.tools.ietf.org:9000/p/6tisch?useMonospaceFont=tru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datatracker.ietf.org/doc/review-ietf-6tisch-minimal-19-opsdir-lc-kumari-2017-02-12/" TargetMode="External"/><Relationship Id="rId2" Type="http://schemas.openxmlformats.org/officeDocument/2006/relationships/hyperlink" Target="https://datatracker.ietf.org/doc/review-ietf-6tisch-minimal-19-secdir-telechat-kivinen-2017-02-15/" TargetMode="External"/><Relationship Id="rId3" Type="http://schemas.openxmlformats.org/officeDocument/2006/relationships/hyperlink" Target="https://datatracker.ietf.org/doc/review-ietf-6tisch-minimal-19-genart-telechat-carpenter-2017-02-04/" TargetMode="External"/><Relationship Id="rId4" Type="http://schemas.openxmlformats.org/officeDocument/2006/relationships/hyperlink" Target="https://datatracker.ietf.org/doc/review-ietf-6tisch-minimal-17-secdir-lc-kivinen-2016-12-22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over the TSCH mode of IEEE 802.15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3 March 2017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24AE0-81A4-41BB-B679-6B3086F58B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E4C00-91B3-4A8F-A8D4-DD02D13DF2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minimal-re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92000" y="1652760"/>
            <a:ext cx="7344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d rekey from minimal to new docu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for CoMI managed access to ke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key is managed by slow process of JRC reaching out to all nodes and writing new ke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sion of new keys includes timeout on old key, after switch-o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s accept traffic from old keys and new keys, uses old keys for transmission until use of new key is se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 over from old to new keys triggers expiration of old keys based upon tim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addresses are also managed in this interface, short addresses timeout based upon AS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C can garbage collect short-addresses by initiate reke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KING WG adoption and co-auth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E9DFB-07AA-4E41-82A6-25F3B6F934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16B2A-8C31-4861-9E00-B776A8B487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join-enhanced-bea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92000" y="1652760"/>
            <a:ext cx="7344000" cy="43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ed for definition of extension to enhanced-beacon made clear by join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s IANA registry created by draft-kivinen-802-15-i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cludes some bits to help hosts (aka non-RPL leaf nodes) to find correct network, and give hint about using unicast Router Solitic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twork ID is based upon SHA256 of DODAGID to identify net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tes that EB is not encrypted, so inappropriate to put much information 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s bit to indicate if sender is available as a Join Proxy; L3 address is implied by SLAAC configuation of Link-Local address from EUI-64 of sen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 algn="ctr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EKING WG adoption and co-autho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6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Cells in DELETE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484280"/>
            <a:ext cx="822816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6P DELETE Reques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Version| T | R |     Code      |     SFID      | SeqNum|  GEN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Metadata            |  CellOptions  |   NumCells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CellList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Cells: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The number of cells from the specified CellList the s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wants to delete from the schedule of both sender and receiv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llList: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A list of 0, 1 or multiple 6P Cell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 The CellLis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aque set of bytes, sent unmodified to the SF. 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MMENDED format of each 6P Cell is defined in Section 4.2.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F MAY redefine the format of the CellLis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1"/>
          <p:cNvSpPr/>
          <p:nvPr/>
        </p:nvSpPr>
        <p:spPr>
          <a:xfrm>
            <a:off x="297360" y="5661000"/>
            <a:ext cx="85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say that NumCells MUST be equal to the number of cells in the CellLi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just remove the NumCells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1"/>
          <p:cNvSpPr/>
          <p:nvPr/>
        </p:nvSpPr>
        <p:spPr>
          <a:xfrm>
            <a:off x="-223920" y="1341360"/>
            <a:ext cx="56671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 Message Format  . . . . . .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.  6top Information Element 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2.  General Message Format 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3.  6P Message Types  . . .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4.  6P Command Identifiers 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5.  6P Return Codes . . . . . . . . . . . . . . . . . . .  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6.  6P CellOptions  . . . . . . . . . . . . . . . . . . .  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7.  6P Cell Format  . . .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8.  6P ADD Request Format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6P DELETE Request Format  . . . . . . . . . . . . . . 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0. 6P STATUS Request Format  . . . . . . . . . . . . . .  1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1. 6P LIST Request Format  . . . . . . . . . . . . . . .  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2. 6P CLEAR Request Format . . . . . . . . . . . . . . .  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3. 6P RELOCATE Request Format  . . . . . . . . . . . . .  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6P Response Format  . . . . . . . . . . . . . . . . . 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5. 6P Confirmation Format 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  Protocol Behavior . . . . .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.  Version Checking 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2.  SFID Checking . .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3.  Concurrent 6P Transactions 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4.  Timeout . . . .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5.  SeqNum Mismatch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6.  Clearing the Schedule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7.  Adding Cells with 2-step Transaction 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8.  Aborting a 6P Transaction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9.  Deleting Cells 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0. Listing Cells .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1. Cell Relocation . . . . . . . . . . . . . . . . . . .  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2. Cell Suggestion . . . . . . . . . . . . . . . . . . .  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3. Generation Management . . . . . . . . . . . . . . . .  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4. Handling error responses  . . . . . . . . . . . . . .  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51280" y="1341360"/>
            <a:ext cx="2808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ZoneTexte 1"/>
          <p:cNvSpPr/>
          <p:nvPr/>
        </p:nvSpPr>
        <p:spPr>
          <a:xfrm>
            <a:off x="3808440" y="1341360"/>
            <a:ext cx="56671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 Message Format  . . . . . .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.  6top Information Element 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2.  General Message Format 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3.  6P Message Types  . . .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4.  6P Command Identifiers 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5.  6P Return Codes . . . . . . . . . . . . . . . . . . .  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6.  6P CellOptions  . . . . . . . . . . . . . . . . . . .  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7.  6P Cell Format  . . .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Generic 6P Request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Generic 6P Response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5. Generic 6P Confirmation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6P Commands and Opera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8.  Add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Delet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0. Retrieving the stat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1. List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2. Clearing the Schedu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3. Relocating a ce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  Protocol Behavior . . . . .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.  Version Checking 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2.  SFID Checking . .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3.  Concurrent 6P Transactions 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4.  Timeout . . . .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5.  SeqNum Mismatch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8.  Aborting a 6P Transaction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9.  Deleting Cells 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0. Listing Cells .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1. Cell Relocation . . . . . . . . . . . . . . . . . . .  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2. Cell Suggestion . . . . . . . . . . . . . . . . . . .  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3. Generation Management . . . . . . . . . . . . . . . .  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4. Handling error responses  . . . . . . . . . . . . . .  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-&gt; C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 for IETF 98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remote, Michael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P: Xavi and Qin rem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O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on mi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9A93-9111-4BE7-880F-66E05E499D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90160" y="5331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draft-…-6tisch-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3CF7C7D-F9F7-4F20-905A-69E141D86E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BB4F168-D8C9-492E-B095-D3856BBF01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-&gt; C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8CF8AB9-084A-4419-830F-D396E1FB9F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4CD0C62-034B-4D69-BFA5-8F77802152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3FAB7BD-BD44-4C89-92A5-BC8F139856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C8B62C3-F8FD-42B4-886F-E9F39C4B94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395280" y="508464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   Scribe; please contribute online to the minutes at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http://etherpad.tools.ietf.org:9000/p/6tisch?useMonospaceFont=tru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  Recordings and Minutes are public and may be subject to discovery in the event of litiga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*  From the Webex lo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B7A2ECC-1F5B-4E25-82A5-99E30F6BD0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546FB63-3304-4731-98AE-47DC12F5AC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72BD8EC-A889-4C72-AA2C-4C527F3922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88041AE-C1B3-4293-9D40-27D29F8227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FE4FC46-CFCC-4E18-A9D5-10CD15157A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57040" y="1881360"/>
            <a:ext cx="86518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 of drafts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security (Michael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6P (Xavi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 for IETF 98 (Pasca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3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68360" y="2276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19BBB70-2A8C-442C-A912-0914D37E00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5A19A2C-5F30-4542-B02F-55D9E40423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minimal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OPSDIR Last Call Review (of -20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2"/>
              </a:rPr>
              <a:t>SECDIR Telechat Review (of -19): Has Iss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3"/>
              </a:rPr>
              <a:t>GENART Telechat Review (of -19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4"/>
              </a:rPr>
              <a:t>SECDIR Last Call Review (of -17): Serious Iss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ART Last Call Review (of -17): Almost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DIR Early Review (of -15): Ready with Ni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DIR Early Review (of -13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68360" y="2276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sec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team meet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s occurred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7-01-17, 2017-01-31, 2017-02-14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7-02-21 (extra), 2017-02-28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: 2017-03-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ly pres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ael Richardson, Tero Kivinen, Pascal Thuber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, Mališa Vučinić, Göran Selander, Toerless Eckert, Peter van der S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41520" y="5538960"/>
            <a:ext cx="7781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Recent minutes so far:</a:t>
            </a: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	</a:t>
            </a: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https://www.ietf.org/mail-archive/web/6tisch-security/current/msg0066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22"/>
          <p:cNvSpPr/>
          <p:nvPr/>
        </p:nvSpPr>
        <p:spPr>
          <a:xfrm>
            <a:off x="8132040" y="624528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fld id="{83EA4B5D-8F09-4E86-9E8B-C0099F2F538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hape 23"/>
          <p:cNvSpPr/>
          <p:nvPr/>
        </p:nvSpPr>
        <p:spPr>
          <a:xfrm>
            <a:off x="6553080" y="6245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Shape 24"/>
          <p:cNvSpPr/>
          <p:nvPr/>
        </p:nvSpPr>
        <p:spPr>
          <a:xfrm>
            <a:off x="457200" y="55656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 algn="ct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raft-ietf-6tisch-minimal-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hape 25"/>
          <p:cNvSpPr/>
          <p:nvPr/>
        </p:nvSpPr>
        <p:spPr>
          <a:xfrm>
            <a:off x="792000" y="1650960"/>
            <a:ext cx="734400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45000" bIns="45000" anchor="t">
            <a:spAutoFit/>
          </a:bodyPr>
          <a:p>
            <a:pPr marL="212760" indent="-212760"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one-touch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key provisions removed from this to make it as minimal a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cking updates from OSCOAP and EDHO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me complications to proxy mechanism as a result of changes in EDHOC relating to SIGMA-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4400" indent="-21564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ing to add a 6TiSCH-specific CoAP option for stateless prox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4400" indent="-21564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ussions on Core list with Klaus Hart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ing to add passive flow in the asymmetric key mode triggered by a CoAP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neral rewriting of the text to make it more explic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2FE14-A9B9-4ABC-BDFD-A2DEEE5D9F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EDFAB-46DE-4419-A899-467D9E497A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dtsecurity-secure-j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92000" y="1650960"/>
            <a:ext cx="7344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is the zero-touch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ing text from this document to move it to minimal-security as appropri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ing abandonning fully passive mode for hybr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edge uses minimal EDHOC process to build secure relationshi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C drives enrollment, providing certificate via CoM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some wiggle room as to whether ownership voucher is transfered during EDHOC process vs occurs in CoM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Pascal Thubert (pthubert)</cp:lastModifiedBy>
  <dcterms:modified xsi:type="dcterms:W3CDTF">2017-03-03T14:30:24Z</dcterms:modified>
  <cp:revision>10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