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9BD2F66-D914-4134-8C35-14AD2D09C1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3F87C6-808B-482D-82E6-D3CE5F37001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C47EFF8-5F74-4053-93D5-E889B406BBD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81D5F5-7508-4968-B6DC-1AED167D178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B18F83-7022-409F-9130-4A42D773F33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4F575FD-20D8-416B-A4FD-536EAFD562C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3B12C7-D7B9-4307-9255-556F83C8881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9CB14FD-2C40-42B7-A4C2-C34BC8844CA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CA2A015-4237-4124-8080-7F9ED05E14F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B69BA60-F5DB-4467-9518-0336EAA35A2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AB47A7-1F63-45D6-A18F-9B6714AAF29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4A41797-6888-46A3-91FA-B7CE4434A70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1E54FDE-C26E-45B3-BD31-3F272746077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86993F-4923-47ED-83DE-900F6CC80AA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CAC302E-12F5-4959-A034-BDE35B9AC41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1BECB-2B00-47EC-874E-D09F563DBB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D6197-2F8C-4C6C-80E5-8893384D1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75AFF-ADBA-445E-BE05-8F873F0E9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EB371-E16E-4788-8BC2-88705BC2C0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68FC-6032-4853-B446-6605A460D6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507B-C47F-45B9-B0CC-056C4C302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CD81F-1CA1-45D9-BB51-44DAABA08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6DA0B-0D66-40B6-AD11-2CA1A8B8CE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F83BC7F-641C-4DEB-ABFE-EAE827218B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E9C79-B07F-414D-B85A-AA4AC8FD1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80299-C344-4F55-9C89-536F41A1A9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9DF90-8C77-45C9-8924-ACCEB1131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8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957DEB1-B639-4334-906A-19AE9E3BBD8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8 April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1381DA-09FB-4CA3-9B51-6804EFBFDC9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2A901F9-21D1-42CE-8483-C9833C9260D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8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9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9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9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826920" y="1916280"/>
            <a:ext cx="763272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Goal to advance 6TiSCH minimal to WG LC by IETF 99 and the zerotouch soon after.</a:t>
            </a:r>
            <a:endParaRPr b="0" lang="en-US" sz="2800" spc="-1" strike="noStrike">
              <a:solidFill>
                <a:srgbClr val="ffffff"/>
              </a:solidFill>
              <a:latin typeface="Arial"/>
            </a:endParaRPr>
          </a:p>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Dependencies on EDHOC which needs a WG, likely ACE, waiting for the chairs/ADs. </a:t>
            </a:r>
            <a:endParaRPr b="0" lang="en-US" sz="2800" spc="-1" strike="noStrike">
              <a:solidFill>
                <a:srgbClr val="ffffff"/>
              </a:solidFill>
              <a:latin typeface="Arial"/>
            </a:endParaRPr>
          </a:p>
        </p:txBody>
      </p:sp>
      <p:sp>
        <p:nvSpPr>
          <p:cNvPr id="100" name="Title 1"/>
          <p:cNvSpPr/>
          <p:nvPr/>
        </p:nvSpPr>
        <p:spPr>
          <a:xfrm>
            <a:off x="457200" y="274680"/>
            <a:ext cx="8228160" cy="1141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ea typeface="Droid Sans Fallback"/>
              </a:rPr>
              <a:t>Statu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0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04"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0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0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0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25B100D-F15E-403E-88C9-49A1680E350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6C23414-1FA8-4240-AC25-C3D089E7D7B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65C1FAA-29C0-4F4F-A790-6C04E280B8D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B4EEFEC-D06F-4897-9D20-A675ED33675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8D6EA61-BE78-4AA6-919E-B8981765F43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F09804D-7DB9-4F5E-8C16-A865E560A13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3C6BA8-B1AA-4D84-96FF-EEFE6D1E3C5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C4A9BBE-D698-44FC-8854-F584DB85966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15D15B9-4F73-42C4-A3A0-E0151282F7C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579D2C7-742E-4C6B-96FF-EDFEBA4DC61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1A2D5A9-3C53-4C20-97D0-168AB2D035D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A37D57-CA17-4A70-908F-7A7A2A2398D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C331880-7DEA-4B24-B40A-51EDD62F21D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625320" y="18223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andy to check IETF documents on 6TiSCH vs. DetNet (https://tools.ietf.org/html/draft-ietf-detnet-use-cases-12 and https://tools.ietf.org/html/draft-ietf-6tisch-architecture-11) and come back to us on whether there is a need to maintain another document, if so whether https://tools.ietf.org/html/draft-thubert-6tisch-4detnet-01 is a good start</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14971B4-5F72-49BB-B483-39F5B6C62D5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32F6F29-E17E-4AAA-8E81-977D5EACAC9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79" name="Text Box 7"/>
          <p:cNvSpPr/>
          <p:nvPr/>
        </p:nvSpPr>
        <p:spPr>
          <a:xfrm>
            <a:off x="604800" y="16207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ego volunteered as co author.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dea is refresh and adoption call</a:t>
            </a:r>
            <a:endParaRPr b="0" lang="en-US" sz="20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Peter volunteered to help</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efresh?</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FC6396-29C7-40F0-8219-3E736BA7E82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519C02-A3A9-499E-A948-EAADAF06BE3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8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ublish update before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8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28T13:06:16Z</dcterms:modified>
  <cp:revision>1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