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0EC19DD-00F0-4660-A4FB-4796BDFD13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4F21B03-E79F-4AB6-B987-4B614FDCDC4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1203715-58BB-4708-BF55-D0CE33BD691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70E9566-A78A-4B2B-ABA6-0537F88E924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2BBD01A-555F-402A-B6AD-80CEE260135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E14903D-537E-4A23-9823-4904BD99470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D160C1B-F8EB-4838-8817-00514F4CBFA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8B3CDB1-52D9-46D4-A1EC-6BFF8CF5B77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C0CA80A-D2E3-408B-93A4-1D0579AC79C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3A679A8-B6D8-41C1-925A-8170399B277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AE42168-0730-4488-890F-4362795AE29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2DAB48F-3DB5-4286-802D-DCC70BF1167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92A47B1-AC9C-432F-99C9-25A538C2600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6D0AF6B-8081-4759-B4AF-1F64A1FB0C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86D0A14-F891-450D-B69F-44F97DBDD11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E24C6-1EFC-4CF1-8F90-586772CFE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C7244-9412-414F-B179-6C0A72AFA9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FA762D-F290-4063-B663-9BA27D64BB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AEC08-B7DB-4D6A-B284-DB37280126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5297-7321-4A1B-B941-1D25101FC0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03A0-A49D-4625-AD5A-143CED67B4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AABD8-97D3-4564-BD41-4821044D58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64680-8967-45D8-AEFC-FDCAE8223A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4E59B2B-A2DA-4651-8474-A6E08865E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410BD-03A8-49F4-BABE-91EFF59DEC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BDF94-7638-40C1-BF5C-BAE0C37397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46266-C02C-498F-8B04-E5E128E49E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8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8332A05-43A6-48C2-A350-59319EF1CFF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8 April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A95C56E-1B11-40FB-90A9-E699B1E7C5D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82E8C84-76BF-41A3-B2E7-CFB17BAB506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8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9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9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9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9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826920" y="1916280"/>
            <a:ext cx="7632720" cy="180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Goal to advance 6TiSCH minimal to WG LC by IETF 99 and the zerotouch soon after.</a:t>
            </a:r>
            <a:endParaRPr b="0" lang="en-US" sz="2800" spc="-1" strike="noStrike">
              <a:solidFill>
                <a:srgbClr val="ffffff"/>
              </a:solidFill>
              <a:latin typeface="Arial"/>
            </a:endParaRPr>
          </a:p>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Dependencies on EDHOC which needs a WG, likely ACE, waiting for the chairs/ADs. </a:t>
            </a:r>
            <a:endParaRPr b="0" lang="en-US" sz="2800" spc="-1" strike="noStrike">
              <a:solidFill>
                <a:srgbClr val="ffffff"/>
              </a:solidFill>
              <a:latin typeface="Arial"/>
            </a:endParaRPr>
          </a:p>
        </p:txBody>
      </p:sp>
      <p:sp>
        <p:nvSpPr>
          <p:cNvPr id="100" name="Title 1"/>
          <p:cNvSpPr/>
          <p:nvPr/>
        </p:nvSpPr>
        <p:spPr>
          <a:xfrm>
            <a:off x="457200" y="274680"/>
            <a:ext cx="8228160" cy="1141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ea typeface="Droid Sans Fallback"/>
              </a:rPr>
              <a:t>Statu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0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04"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0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0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0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FF451E0-CDC0-4CD5-A869-A778317F427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6B0D701-69BB-4506-B4A1-22BEEBB5E4A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0B99C8D-6D9C-452D-91B6-A54D8F339C6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05BFD13-AF19-46A1-800E-022E57F8BF9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20B7B2E-7E75-45D8-B02E-541152FCD5D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94D0F1D-C26B-4F72-888B-22CEEB7B6A9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2DD11C9-6B04-4FCF-9541-F13ED29FB65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7803F92-27FE-4D3F-8F03-92EF44BC2B1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66D0E05-4E4F-43D1-A8F1-C20C68FA0EF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8977480-40D7-419E-A6DE-CBFDB519357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57238C4-1D35-4EBA-90E0-4C17F8F2E8F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0471D02-8050-407F-A3E7-500B9079550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731AC6C-43AD-4E0F-99C9-B9FC9608BD0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625320" y="18223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andy to check IETF documents on 6TiSCH vs. DetNet (https://tools.ietf.org/html/draft-ietf-detnet-use-cases-12 and https://tools.ietf.org/html/draft-ietf-6tisch-architecture-11) and come back to us on whether there is a need to maintain another document, if so whether https://tools.ietf.org/html/draft-thubert-6tisch-4detnet-01 is a good start</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CDAEB99-17A5-457F-A0FB-58D31049A80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5766113-B11D-46D9-B1F5-868E93C6E06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79" name="Text Box 7"/>
          <p:cNvSpPr/>
          <p:nvPr/>
        </p:nvSpPr>
        <p:spPr>
          <a:xfrm>
            <a:off x="604800" y="16207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ego volunteered as co author.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dea is refresh and adoption call</a:t>
            </a:r>
            <a:endParaRPr b="0" lang="en-US" sz="20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Peter volunteered to help</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efresh?</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21514BF-83D3-4053-82AC-1E24AF922D3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128C600-ED4A-4153-B221-95FCD9C9973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8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ublish update before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8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28T13:06:16Z</dcterms:modified>
  <cp:revision>11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