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A79D8AD-01E6-4E43-B1D8-BCD34C711B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A27B112-F943-4846-BF79-5BCE9F5F7B3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4625497-A6D5-4EC9-B4D1-A56093F8DC9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4973AE8-C050-48CD-B75F-1C2CC81900A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95B6688-1A7E-443F-8C86-B0E14CAA5FD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1321E24-2FD1-4A1C-B916-AE2AA0B945A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B3B34A-3602-409A-80BF-DE060A44A79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167D268-B0AF-4AE9-85C0-67EAA81E1BC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1141010-E507-4F94-93AF-C66B87015E0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0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79BA1BE-984C-47EE-9526-0CA454FE465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4AF612F-92EA-4155-B045-02223711D43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B3C81-067C-449E-8004-94DA4C8145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85E69-A9E9-4866-B5F7-88167DAD7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57A0B-C684-4913-8EB4-43A07A931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661B0-9ED6-4217-B578-66EC4E297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B178-A794-4778-9FFE-D6DA2FC914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F966-D2AF-4E4C-8956-3DC280948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79E69-9F17-4591-8C1A-2D5E71425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3776F-62F2-4956-B22D-17E6398AE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EB0E30-CDAE-478A-B20D-3F30E13753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76F6E-5F8A-4410-BB1D-A6010B365C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EA5E6-E0A8-4DB1-9356-B98E6432D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6BFA6-0D0A-4FF4-A6B2-A26A0AEA27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6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2 May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D6A0C7-4FB3-41E1-80E6-326551A9423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2 May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539640" y="836640"/>
            <a:ext cx="799308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7.  Not clear how to abort the CONFIRMATION step of a 3-step transa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Similarly, in the case of 3-step transaction, when the receiver of a 6P Response fails during the 6P Transaction and is unable to complete it, it SHOULD reply to that 6P Response with a 6P Confirmation with return code ERR_RESET.  Upon receiving this 6P Confirmation, the sender of the 6P Response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539640" y="836640"/>
            <a:ext cx="799308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8. In Figure 14, is NumCells needed for the RELOCATE Respo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Very doubtful.  For instance, SF would NOT specify the list of supported SFs.  It would not need to specify the number of kernel memory buff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SF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684360" y="836640"/>
            <a:ext cx="777528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bout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Current text about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Metadata:  Same usage as for the 6P ADD command, see Section 4.3.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But that says the usage is defined by the SF.  So, does this definition mean that the usage for ADD has to conform to the usage for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nother comment regarding to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Consider making the Metadata field op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Need more explanation about Metadata usage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682560" y="320760"/>
            <a:ext cx="7775640" cy="618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UST specify the list of statistics to gather.  An example statistic is the number of transmitted frames to each neighbor.  In case the SF requires no statistics to be gathered, the specific of the SF MUST explicitly state so.</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What if there are multiple SFs and the node wants an aggreg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learly state the application domain for which the SF is creat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unless there a registry of application domai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list of current implementations, at least during  the I-D state of the document, per [RFC6982].</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This implies a race condition, since changes to the document could cause previous implementations to become non-complian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performance evaluation of the scheme, possibly  through references to external documen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requiring highly nontrivial analysi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AY redefine the format of the CellOptions fiel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But the field is opaque...?  Does it mean to change the number of bi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discuss with SF0 aut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684360" y="836640"/>
            <a:ext cx="77752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Suggested new 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ask WG if it is necessary to add the suggested terminology to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SF0</a:t>
            </a:r>
            <a:endParaRPr b="0" lang="en-US" sz="4400" spc="-1" strike="noStrike">
              <a:solidFill>
                <a:srgbClr val="ffffff"/>
              </a:solidFill>
              <a:latin typeface="Arial"/>
            </a:endParaRPr>
          </a:p>
        </p:txBody>
      </p:sp>
      <p:sp>
        <p:nvSpPr>
          <p:cNvPr id="8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8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9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3144020-4E68-470B-B5B9-4B943D2ECCA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582E563-F663-4480-B137-CDD1F187D6D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2D0E3C4-E90E-4C57-9074-A353C05EDC2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ECDD1F3-6628-4A39-812A-C72B438657C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52A229E-D786-4792-9D2B-44AC4FC52BB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627E8F1-081A-465F-B0FB-BD2E39F7C07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635D656-3BEF-47AE-87ED-0286D2CCA3C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5B1FFA0-7453-4F17-8E8F-738B84ABF9D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3DDECCA-D1DA-4E56-B865-74221802B7B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5F4CDC-219C-4B17-93C6-F3D87B10CD2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C237341-8AC2-4E2D-838B-B0EAE98F4BA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PlugTest</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F0 finalization (Diego)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25E978-5F60-4B9D-9758-F0D14E251C5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A57110-7ADC-4E92-ABA1-E10D06F5C74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Carsten</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MR (@ETSI) and coordinate PlugTes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address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to bootstrap research liais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3"/>
          <p:cNvSpPr/>
          <p:nvPr/>
        </p:nvSpPr>
        <p:spPr>
          <a:xfrm>
            <a:off x="2425680" y="380880"/>
            <a:ext cx="42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Response to Charlie’s comments</a:t>
            </a:r>
            <a:endParaRPr b="0" lang="en-US" sz="2400" spc="-1" strike="noStrike">
              <a:solidFill>
                <a:srgbClr val="ffffff"/>
              </a:solidFill>
              <a:latin typeface="Arial"/>
            </a:endParaRPr>
          </a:p>
        </p:txBody>
      </p:sp>
      <p:sp>
        <p:nvSpPr>
          <p:cNvPr id="77" name="TextBox 4"/>
          <p:cNvSpPr/>
          <p:nvPr/>
        </p:nvSpPr>
        <p:spPr>
          <a:xfrm>
            <a:off x="468360" y="1413000"/>
            <a:ext cx="806436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editori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Accepted most of editorial comm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rminolog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I think there should be a new section for "Terminology", and various TSCH, 6TiSCH, and 6top terms explained in that section for conveni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Most of terminologies mentioned by reviewer are in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uggested new terminologies:</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539640" y="836640"/>
            <a:ext cx="79930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ERR_EOL is defined as an error, but it is used as a flag for protocol signa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Response]: Replace ERR_EOL with EOL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Why is any negotiation needed for node A to delete 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For example, node A wants to delete 2 cells and candidates would be cell-1, cell-2, and cell-3, but node B’s could have its preference in terms of PDR or QoS so a negotiation is need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If a negotiation is needed, then isn't NumCells needed somewhere in the message form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Yes, NumCells is needed. It is in the 6P DELETE Requ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 In Figure 13, If you have a Candidate CellList, don't you also need "NumCand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539640" y="836640"/>
            <a:ext cx="799308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 GEN and SeqNum play similar roles.  The protocol could be cleaner if their roles were combined. Plus you would have more bits, making rollover far less frequ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GEN is for schedule inconsistency detection. And SeqNum is used to tell the association between Request and Reponse/Confirmation, especially in the concurrent situation. In another word, there are at least two cases which may make GEN not equal to SeqNum, one is when a transaction fail, another one is when concurrent transactions happ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 Not clear why LIST and COUNT are needed except possibly for reboot or operating system err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COUNT may be useful when a LIST has to be issue to know in advance how many cells can be expected. LIST/COUNT  are tools for an SF in order to have updated information of the schedule status of a neighbor no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5-12T14:01:34Z</dcterms:modified>
  <cp:revision>1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