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4" name="PlaceHolder 1"/>
          <p:cNvSpPr>
            <a:spLocks noGrp="1"/>
          </p:cNvSpPr>
          <p:nvPr>
            <p:ph type="dt" idx="2"/>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8" name="PlaceHolder 4"/>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01C936F-A28F-4912-A97D-D07ACFC19BA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D12ED89-D3E8-4050-9CD3-6AFE05CF650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8B3686F-40F7-42AB-8EAB-717CCA7F815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20EC8B7-D4C6-42AA-A476-C65E805D709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92FFAE98-342E-4C87-829D-83D9C026EBD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44C7C71-458C-4583-AABB-0EF85199330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B32F013-03AB-4C7A-B04B-BC817B35436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7763858-4C3B-494E-B19F-722FBD5A69B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E2F1C80-1D85-4FE2-A4A0-C8EF2B5B15B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06"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DC590DF-81E3-4D8B-A308-990188B87C1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BD8F7E6-B057-4891-8073-7F9324A15F6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3D14D2-ABAC-4DB2-88C4-63D1038048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EBB2EF-3C38-4243-8861-E0054D57F5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95F0A1-A303-44AE-A809-FF2D37D9FD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E44220-D48B-462F-8018-BF2635EB33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E77BD-85C4-4FE8-8F35-8A11EF49AE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DADA0-C218-4D1B-A588-05D1D3AF91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8CA432-3134-405E-BF1E-F13C7CACF2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0AA6BE-52BA-4810-8152-EB0DC47B56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856B607-81EB-464B-8017-98ABE0AB12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7B744-139C-400D-94F1-133D14A846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C9689-0633-4297-8733-0CB8502669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684EA-187E-4CF9-9FB4-1322D04787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60560" y="6400800"/>
            <a:ext cx="246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2 May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0264A6C-2BA6-457F-AEE8-9CA6BBCEF07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5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5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12 May 2017 Webex</a:t>
            </a:r>
            <a:endParaRPr b="0" lang="en-US" sz="4400" spc="-1" strike="noStrike">
              <a:solidFill>
                <a:srgbClr val="ffffff"/>
              </a:solidFill>
              <a:latin typeface="Arial"/>
            </a:endParaRPr>
          </a:p>
        </p:txBody>
      </p:sp>
      <p:pic>
        <p:nvPicPr>
          <p:cNvPr id="5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539640" y="836640"/>
            <a:ext cx="7993080" cy="545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7.  Not clear how to abort the CONFIRMATION step of a 3-step transac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OLD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In case the receiver of a 6P Request fails during a 6P Transaction and is unable to complete it, it SHOULD reply to that request with a 6P Response with return code ERR_RESET.  Upon receiving this 6P   Response, the initiator of the 6P Transaction MUST consider the 6P Transaction as fail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NEW-----------------</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In case the receiver of a 6P Request fails during a 6P Transaction and is unable to complete it, it SHOULD reply to that request with a 6P Response with return code ERR_RESET.  Upon receiving this 6P   Response, the initiator of the 6P Transaction MUST consider the 6P Transaction as fail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Similarly, in the case of 3-step transaction, when the receiver of a 6P Response fails during the 6P Transaction and is unable to complete it, it SHOULD reply to that 6P Response with a 6P Confirmation with return code ERR_RESET.  Upon receiving this 6P Confirmation, the sender of the 6P Response MUST consider the 6P Transaction as fail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3"/>
          <p:cNvSpPr/>
          <p:nvPr/>
        </p:nvSpPr>
        <p:spPr>
          <a:xfrm>
            <a:off x="539640" y="836640"/>
            <a:ext cx="7993080" cy="420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8. In Figure 14, is NumCells needed for the RELOCATE Respon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No, because the length of the IE is giv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9. Some of the suggestions for SF specification seem impractic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OLD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o MUST specify the behavior of a node when it boo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Very doubtful.  For instance, SF would NOT specify the list of supported SFs.  It would not need to specify the number of kernel memory buff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NEW-------------------------</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o  MUST specify the SF behavior of a node when it boo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
          <p:cNvSpPr/>
          <p:nvPr/>
        </p:nvSpPr>
        <p:spPr>
          <a:xfrm>
            <a:off x="684360" y="836640"/>
            <a:ext cx="777528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mained issu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About metadat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Current text about CL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Metadata:  Same usage as for the 6P ADD command, see Section 4.3.1.</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But that says the usage is defined by the SF.  So, does this definition mean that the usage for ADD has to conform to the usage for CL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nother comment regarding to metadat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Consider making the Metadata field option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ea typeface="宋体"/>
              </a:rPr>
              <a:t>[TODO]: Need more explanation about Metadata usage in the dra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3"/>
          <p:cNvSpPr/>
          <p:nvPr/>
        </p:nvSpPr>
        <p:spPr>
          <a:xfrm>
            <a:off x="682560" y="320760"/>
            <a:ext cx="7775640" cy="618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mained issue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 Some of the suggestions for SF specification seem impractic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MUST specify the list of statistics to gather.  An example statistic is the number of transmitted frames to each neighbor.  In case the SF requires no statistics to be gathered, the specific of the SF MUST explicitly state so.</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What if there are multiple SFs and the node wants an aggregat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SHOULD clearly state the application domain for which the SF is create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Very doubtful, unless there a registry of application domain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SHOULD contain a list of current implementations, at least during  the I-D state of the document, per [RFC6982].</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This implies a race condition, since changes to the document could cause previous implementations to become non-complian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SHOULD contain a performance evaluation of the scheme, possibly  through references to external document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Very doubtful, requiring highly nontrivial analysi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MAY redefine the format of the CellOptions fiel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But the field is opaque...?  Does it mean to change the number of bit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ea typeface="宋体"/>
              </a:rPr>
              <a:t>[TODO]: discuss with SF0 auth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684360" y="836640"/>
            <a:ext cx="777528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mained issue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  Suggested new terminolog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sour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destin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ea typeface="宋体"/>
              </a:rPr>
              <a:t>[TODO]: ask WG if it is necessary to add the suggested terminology to draft-ietf-6tisch-terminolog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5"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SF0</a:t>
            </a:r>
            <a:endParaRPr b="0" lang="en-US" sz="4400" spc="-1" strike="noStrike">
              <a:solidFill>
                <a:srgbClr val="ffffff"/>
              </a:solidFill>
              <a:latin typeface="Arial"/>
            </a:endParaRPr>
          </a:p>
        </p:txBody>
      </p:sp>
      <p:sp>
        <p:nvSpPr>
          <p:cNvPr id="8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8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9"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90"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91"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92"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93"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0FF9276-230F-41B6-BA51-F586FC9A72E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111D2C2-044C-4741-9B3A-ACDFDD18247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5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3A97054-E4E4-467B-9E51-87AC56B316A7}"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7830A0F-ED43-409D-9700-4102F521F9C3}"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DFD265D-E7B6-4B84-8C06-C0EE0C5F69FF}"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3840B41-0218-4078-BF20-23EEE4C805D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6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6CB60F4-A2F2-4E22-9F9A-C1A3C84BF24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7E88FFDD-6591-476A-8D60-D198AAB90FC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E4C541C5-1406-4DC1-A6F8-6E8DFA87F0D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2ACC7AA-60B7-48E4-9237-B7A39434D04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642536B7-C07B-4581-B9A8-C0BB0AC67C7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69" name="Text Box 7"/>
          <p:cNvSpPr/>
          <p:nvPr/>
        </p:nvSpPr>
        <p:spPr>
          <a:xfrm>
            <a:off x="179280" y="1219320"/>
            <a:ext cx="8651880" cy="4601880"/>
          </a:xfrm>
          <a:prstGeom prst="rect">
            <a:avLst/>
          </a:prstGeom>
          <a:noFill/>
          <a:ln w="0">
            <a:noFill/>
          </a:ln>
        </p:spPr>
        <p:style>
          <a:lnRef idx="0"/>
          <a:fillRef idx="0"/>
          <a:effectRef idx="0"/>
          <a:fontRef idx="minor"/>
        </p:style>
        <p:txBody>
          <a:bodyPr anchor="t">
            <a:normAutofit fontScale="97000"/>
          </a:bodyPr>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min]</a:t>
            </a:r>
            <a:endParaRPr b="0" lang="en-US" sz="24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dressing todo's from last time</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News from PlugTest</a:t>
            </a:r>
            <a:endParaRPr b="0" lang="en-US" sz="18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SF0 finalization (Diego)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pdate on security (Michael/Malisa)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5D7E3094-375E-4BB3-BAB9-62860B4407B5}"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726BC2F-3C90-4F89-8834-29C00C163ADD}"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to-do’s</a:t>
            </a:r>
            <a:endParaRPr b="0" lang="en-US" sz="3200" spc="-1" strike="noStrike">
              <a:solidFill>
                <a:srgbClr val="ffffff"/>
              </a:solidFill>
              <a:latin typeface="Arial"/>
            </a:endParaRPr>
          </a:p>
        </p:txBody>
      </p:sp>
      <p:sp>
        <p:nvSpPr>
          <p:cNvPr id="73"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Thomas to contact Carsten</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Thomas to contact MR (@ETSI) and coordinate PlugTest</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review SF0</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Jonathan to review 6P after Charlie's comments are addressed</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address Charlie's comments</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to bootstrap research liaison</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74"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6P</a:t>
            </a:r>
            <a:endParaRPr b="0" lang="en-US" sz="4400" spc="-1" strike="noStrike">
              <a:solidFill>
                <a:srgbClr val="ffffff"/>
              </a:solidFill>
              <a:latin typeface="Arial"/>
            </a:endParaRPr>
          </a:p>
        </p:txBody>
      </p:sp>
      <p:sp>
        <p:nvSpPr>
          <p:cNvPr id="7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3"/>
          <p:cNvSpPr/>
          <p:nvPr/>
        </p:nvSpPr>
        <p:spPr>
          <a:xfrm>
            <a:off x="2425680" y="380880"/>
            <a:ext cx="4292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Response to Charlie’s comments</a:t>
            </a:r>
            <a:endParaRPr b="0" lang="en-US" sz="2400" spc="-1" strike="noStrike">
              <a:solidFill>
                <a:srgbClr val="ffffff"/>
              </a:solidFill>
              <a:latin typeface="Arial"/>
            </a:endParaRPr>
          </a:p>
        </p:txBody>
      </p:sp>
      <p:sp>
        <p:nvSpPr>
          <p:cNvPr id="77" name="TextBox 4"/>
          <p:cNvSpPr/>
          <p:nvPr/>
        </p:nvSpPr>
        <p:spPr>
          <a:xfrm>
            <a:off x="468360" y="1413000"/>
            <a:ext cx="8064360" cy="42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editorial commen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Accepted most of editorial commen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rminology”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I think there should be a new section for "Terminology", and various TSCH, 6TiSCH, and 6top terms explained in that section for conveni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Most of terminologies mentioned by reviewer are in draft-ietf-6tisch-terminolog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Suggested new terminologies:</a:t>
            </a:r>
            <a:endParaRPr b="0" lang="en-US" sz="18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source</a:t>
            </a:r>
            <a:endParaRPr b="0" lang="en-US" sz="18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destin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3"/>
          <p:cNvSpPr/>
          <p:nvPr/>
        </p:nvSpPr>
        <p:spPr>
          <a:xfrm>
            <a:off x="539640" y="836640"/>
            <a:ext cx="799308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ERR_EOL is defined as an error, but it is used as a flag for protocol signa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Response]: Replace ERR_EOL with EOL in the dra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 Why is any negotiation needed for node A to delete cell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For example, node A wants to delete 2 cells and candidates would be cell-1, cell-2, and cell-3, but node B’s could have its preference in terms of PDR or QoS so a negotiation is need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 If a negotiation is needed, then isn't NumCells needed somewhere in the message form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Yes, NumCells is needed. It is in the 6P DELETE Reque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 In Figure 13, If you have a Candidate CellList, don't you also need "NumCandCell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No, because the length of the IE is giv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3"/>
          <p:cNvSpPr/>
          <p:nvPr/>
        </p:nvSpPr>
        <p:spPr>
          <a:xfrm>
            <a:off x="539640" y="836640"/>
            <a:ext cx="7993080" cy="42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 GEN and SeqNum play similar roles.  The protocol could be cleaner if their roles were combined. Plus you would have more bits, making rollover far less frequ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GEN is for schedule inconsistency detection. And SeqNum is used to tell the association between Request and Reponse/Confirmation, especially in the concurrent situation. In another word, there are at least two cases which may make GEN not equal to SeqNum, one is when a transaction fail, another one is when concurrent transactions happ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 Not clear why LIST and COUNT are needed except possibly for reboot or operating system erro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COUNT may be useful when a LIST has to be issue to know in advance how many cells can be expected. LIST/COUNT  are tools for an SF in order to have updated information of the schedule status of a neighbor nod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Pascal Thubert (pthubert)</cp:lastModifiedBy>
  <dcterms:modified xsi:type="dcterms:W3CDTF">2017-05-12T14:01:34Z</dcterms:modified>
  <cp:revision>11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